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FD2-43B4-4397-BA7A-9A46202E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FEA-5AD3-43B5-835A-33BE652B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3708-DB41-435C-B80D-EC124485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A36-B1CA-402A-AB95-3FD2C583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40E0-3E12-4450-9951-0A216BB4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6A56-3E57-4E45-B961-83EF1D18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CAE-3B12-444E-9E56-ECCB0B5B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32B-9799-41D4-ADD4-336013DB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593-1E12-4C64-8D65-8E5CE53D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58A-DF9D-40AC-BFC0-B0843332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B600-80F0-41B0-845A-157E556A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71F4-50B4-4650-B6FA-0BD7086D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EA03-E0AB-4D1F-97E9-D7A5E8CF0B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Vokabel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193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rad - degre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ochtemperatur – high temperatu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ieftemperatur – low temperatu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r Wetterbericht – weather repor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e Wettervorhersage – weather forecas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e Nachricht – the new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e Nachrichten – the news repor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r Sonderbericht – special repor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it – wit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rzlich Willkommen  bei – welcome to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ese – this (week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anal – chann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ndung - chann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8:37:31Z</dcterms:created>
  <dc:creator>ahart</dc:creator>
  <dc:description/>
  <dc:language>en-US</dc:language>
  <cp:lastModifiedBy>ahart</cp:lastModifiedBy>
  <dcterms:modified xsi:type="dcterms:W3CDTF">2012-11-02T17:28:57Z</dcterms:modified>
  <cp:revision>12</cp:revision>
  <dc:subject/>
  <dc:title>Slide 1</dc:title>
</cp:coreProperties>
</file>